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519-7A2D-4599-B0DF-6B262F39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DFC-905B-45D7-BC6D-A789177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464-7127-4E32-A002-5C2C00D2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A31-6ED2-4A0A-AF62-AB88505B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E2C-EE59-4C5F-8CA0-2653607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F58-B41D-48F8-A62D-D98953F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F8D-FEA6-4313-B458-1FD19DBF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D57-9D46-46E1-B650-6D3DBA7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69A-E701-4EC0-8746-FCF9813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7B6-C3A0-4470-AB9D-B305BBC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8BE-ECFE-4134-8977-59BDBA9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C1F-0695-4E00-9054-98183AD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3E79-F119-4799-89A5-CF707C06B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3520" y="2370240"/>
            <a:ext cx="63594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Comic Sans MS"/>
                <a:ea typeface="Comic Sans MS"/>
              </a:rPr>
              <a:t>Welcome to our </a:t>
            </a:r>
            <a:r>
              <a:rPr b="1" lang="en-US" sz="8800" spc="-1" strike="noStrike">
                <a:solidFill>
                  <a:srgbClr val="ff6600"/>
                </a:solidFill>
                <a:latin typeface="Comic Sans MS"/>
                <a:ea typeface="Comic Sans MS"/>
              </a:rPr>
              <a:t>Lesso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Kids vocabulary - Hobbies and Interests- What do you like doing - Learn English .mp4" descr="/Users/olga1/Desktop/Kids vocabulary - Hobbies and Interests- What do you like doing - Learn English .mp4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672624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3520" y="4589280"/>
            <a:ext cx="5932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mebel-dlya-shkol-party-stulya"/>
          <p:cNvPicPr/>
          <p:nvPr/>
        </p:nvPicPr>
        <p:blipFill>
          <a:blip r:embed="rId1"/>
          <a:stretch/>
        </p:blipFill>
        <p:spPr>
          <a:xfrm>
            <a:off x="604800" y="1380960"/>
            <a:ext cx="6872400" cy="49215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0"/>
          <p:cNvSpPr/>
          <p:nvPr/>
        </p:nvSpPr>
        <p:spPr>
          <a:xfrm>
            <a:off x="2365200" y="3032280"/>
            <a:ext cx="762120" cy="2396880"/>
          </a:xfrm>
          <a:prstGeom prst="upArrow">
            <a:avLst>
              <a:gd name="adj1" fmla="val 50000"/>
              <a:gd name="adj2" fmla="val 762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диалог хобби.mp4" descr="/Users/olga1/Desktop/диалог хобби.mp4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аудирование.m4a" descr=""/>
          <p:cNvPicPr/>
          <p:nvPr/>
        </p:nvPicPr>
        <p:blipFill>
          <a:blip r:embed="rId1"/>
          <a:stretch/>
        </p:blipFill>
        <p:spPr>
          <a:xfrm>
            <a:off x="1757520" y="1143000"/>
            <a:ext cx="3220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642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4920" y="365040"/>
            <a:ext cx="620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 Light"/>
              </a:rPr>
              <a:t>Hello, my Friend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4160" y="1825200"/>
            <a:ext cx="669924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My name is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Helen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  and I'm from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Moscow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I'm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25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  years old and I'm a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teacher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I like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dancing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 and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sin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But my favourite hobby is </a:t>
            </a: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reading boo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See yo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0"/>
                </a:solidFill>
                <a:uFillTx/>
                <a:latin typeface="Calibri"/>
              </a:rPr>
              <a:t>Helen.</a:t>
            </a: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 Light"/>
              </a:rPr>
              <a:t>Hello,my friend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My name is_________ and I'm from 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I'm ____________ years old and I'm a 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I like ____________ and 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But my favourite hobby is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See yo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Calibri"/>
              </a:rPr>
              <a:t>_________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152280"/>
            <a:ext cx="7045560" cy="22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i="1" lang="en-US" sz="4400" spc="-1" strike="noStrike" u="sng">
                <a:solidFill>
                  <a:srgbClr val="008000"/>
                </a:solidFill>
                <a:uFillTx/>
                <a:latin typeface="Arial Black"/>
                <a:ea typeface="Arial Black"/>
              </a:rPr>
              <a:t>One Thing at a Time</a:t>
            </a:r>
            <a:r>
              <a:rPr b="1" i="1" lang="en-US" sz="60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89280" y="1295280"/>
            <a:ext cx="4805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Work while you work, play while you play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This is the way to be cheerful and ga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All that you do, do with all your mi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000090"/>
                </a:solidFill>
                <a:latin typeface="Calibri"/>
              </a:rPr>
              <a:t>Things done by halves are never done ri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009"/>
          <p:cNvPicPr/>
          <p:nvPr/>
        </p:nvPicPr>
        <p:blipFill>
          <a:blip r:embed="rId1"/>
          <a:stretch/>
        </p:blipFill>
        <p:spPr>
          <a:xfrm>
            <a:off x="0" y="2182680"/>
            <a:ext cx="306216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hat Do You Like To Do Song _ Hobbies Song for Kids.mp4" descr="/Users/olga1/Desktop/What Do You Like To Do Song _ Hobbies Song for Kids.mp4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Comic Sans MS"/>
                <a:ea typeface="Comic Sans MS"/>
              </a:rPr>
              <a:t>Thank you for the Lesson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58920"/>
            <a:ext cx="7515360" cy="133776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689616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4074840" y="333000"/>
            <a:ext cx="117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[ </a:t>
            </a:r>
            <a:r>
              <a:rPr b="1" lang="en-US" sz="48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 ]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983160" y="1340640"/>
            <a:ext cx="17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[ 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s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 ]</a:t>
            </a:r>
            <a:r>
              <a:rPr b="0" lang="ru-RU" sz="4400" spc="-1" strike="noStrike">
                <a:solidFill>
                  <a:srgbClr val="cc00cc"/>
                </a:solidFill>
                <a:latin typeface="Calibri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210480" y="1413000"/>
            <a:ext cx="12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[d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010840" y="1341360"/>
            <a:ext cx="12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[p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11200" y="1341360"/>
            <a:ext cx="14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[m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061640" y="227520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[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]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218400" y="2276640"/>
            <a:ext cx="298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-   [‘da:ns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195920" y="328464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[ d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90400" y="3284640"/>
            <a:ext cx="26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-   [ ri:d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240200" y="4292640"/>
            <a:ext cx="13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[p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66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298320" y="4292640"/>
            <a:ext cx="28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-   [‘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∫ɔ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]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1194480" y="5373720"/>
            <a:ext cx="14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[m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363120" y="5195880"/>
            <a:ext cx="295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-   [‘swimi</a:t>
            </a: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ŋ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7160" y="1825200"/>
            <a:ext cx="6477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A young Ki</a:t>
            </a:r>
            <a:r>
              <a:rPr b="1" lang="en-US" sz="4800" spc="-1" strike="noStrike">
                <a:solidFill>
                  <a:srgbClr val="ff9900"/>
                </a:solidFill>
                <a:latin typeface="Calibri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took his ri</a:t>
            </a:r>
            <a:r>
              <a:rPr b="1" lang="en-US" sz="4800" spc="-1" strike="noStrike">
                <a:solidFill>
                  <a:srgbClr val="ff9900"/>
                </a:solidFill>
                <a:latin typeface="Calibri"/>
              </a:rPr>
              <a:t>ng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one morni</a:t>
            </a:r>
            <a:r>
              <a:rPr b="1" lang="en-US" sz="4800" spc="-1" strike="noStrike">
                <a:solidFill>
                  <a:srgbClr val="ff9900"/>
                </a:solidFill>
                <a:latin typeface="Calibri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alibri"/>
              </a:rPr>
              <a:t>in spri</a:t>
            </a:r>
            <a:r>
              <a:rPr b="1" lang="en-US" sz="4800" spc="-1" strike="noStrike">
                <a:solidFill>
                  <a:srgbClr val="ff9900"/>
                </a:solidFill>
                <a:latin typeface="Calibri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1" descr="%D1%88%D0%B0%D1%80%D0%B6-%D0%BC%D0%B0%D0%BB%D1%8C%D1%87%D0%B8%D0%BA%D0%B0-%D0%BA%D0%BE%D1%82%D0%BE%D1%80%D1%8B%D0%B9-%D0%BA%D0%BE%D1%80%D0%BE%D0%BB%D1%8C-%D1%81-%D0%BA%D1%80%D0%BE%D0%BD%D0%BE%D0%B9-25876104"/>
          <p:cNvPicPr/>
          <p:nvPr/>
        </p:nvPicPr>
        <p:blipFill>
          <a:blip r:embed="rId1"/>
          <a:stretch/>
        </p:blipFill>
        <p:spPr>
          <a:xfrm>
            <a:off x="4730760" y="2317680"/>
            <a:ext cx="27622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Артур Ханов.mp4" descr="/Users/olga1/Desktop/Артур Ханов.mp4"/>
          <p:cNvPicPr/>
          <p:nvPr/>
        </p:nvPicPr>
        <p:blipFill>
          <a:blip r:embed="rId1"/>
          <a:stretch/>
        </p:blipFill>
        <p:spPr>
          <a:xfrm>
            <a:off x="1995480" y="0"/>
            <a:ext cx="443376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Амелия Шигапова.mp4" descr="/Users/olga1/Desktop/Амелия Шигапова.mp4"/>
          <p:cNvPicPr/>
          <p:nvPr/>
        </p:nvPicPr>
        <p:blipFill>
          <a:blip r:embed="rId1"/>
          <a:stretch/>
        </p:blipFill>
        <p:spPr>
          <a:xfrm>
            <a:off x="2243160" y="210960"/>
            <a:ext cx="446724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йдуллина Валерия.MP4" descr="/Users/olga1/Desktop/Зайдуллина Валерия.MP4"/>
          <p:cNvPicPr/>
          <p:nvPr/>
        </p:nvPicPr>
        <p:blipFill>
          <a:blip r:embed="rId1"/>
          <a:stretch/>
        </p:blipFill>
        <p:spPr>
          <a:xfrm>
            <a:off x="21384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амира рисует.mp4" descr=""/>
          <p:cNvPicPr/>
          <p:nvPr/>
        </p:nvPicPr>
        <p:blipFill>
          <a:blip r:embed="rId1"/>
          <a:stretch/>
        </p:blipFill>
        <p:spPr>
          <a:xfrm>
            <a:off x="507960" y="574560"/>
            <a:ext cx="84628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My+hobby.jpg"/>
          <p:cNvPicPr/>
          <p:nvPr/>
        </p:nvPicPr>
        <p:blipFill>
          <a:blip r:embed="rId1"/>
          <a:srcRect l="0" t="13218" r="0" b="13218"/>
          <a:stretch/>
        </p:blipFill>
        <p:spPr>
          <a:xfrm>
            <a:off x="379440" y="446040"/>
            <a:ext cx="72406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img3.jpg"/>
          <p:cNvPicPr/>
          <p:nvPr/>
        </p:nvPicPr>
        <p:blipFill>
          <a:blip r:embed="rId1">
            <a:alphaModFix amt="81000"/>
          </a:blip>
          <a:srcRect l="0" t="13218" r="0" b="13218"/>
          <a:stretch/>
        </p:blipFill>
        <p:spPr>
          <a:xfrm>
            <a:off x="365040" y="523800"/>
            <a:ext cx="6980400" cy="5653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65674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0"/>
                </a:solidFill>
                <a:latin typeface="Calibri"/>
              </a:rPr>
              <a:t>What is a hobby?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Олечка</cp:lastModifiedBy>
  <cp:lastPrinted>2021-11-19T16:37:40Z</cp:lastPrinted>
  <dcterms:modified xsi:type="dcterms:W3CDTF">2021-11-21T10:36:27Z</dcterms:modified>
  <cp:revision>75</cp:revision>
  <dc:subject/>
  <dc:title>Название презентации</dc:title>
</cp:coreProperties>
</file>